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05C4-FB38-4ED3-9147-0A9737931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FE73-8B54-4775-B04C-855C8A64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C3DE-7B7A-4A00-8BB3-240E508E0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204F-BA49-4084-B1B0-0412051FD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15A7-C023-4F73-BE43-A9C8EEE96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4E28-AC91-4588-86FD-9B334892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A5A3-7623-4BC5-AF0F-EFD9E85F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B883-173E-476B-B02B-A787DCBB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FB81-62F5-48F7-B2E3-70F4F307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C7B1-2CDB-47C7-893D-427740B4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1426-DEA0-4115-A565-ECC7680E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E519-3475-4779-BD45-6FF19F11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7C44-087C-4C40-A1FA-6AED6BBF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D841-28EB-442D-A31D-C46E9C57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C36B-B719-4F0C-8AB5-61EDCA36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53C4-0740-419F-9F1E-79820E5A8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F412-D6F0-44C4-84C6-13D38EA4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5184-C8A1-44AB-BF26-9E666977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7835-2D7C-438B-8D74-82F6FE04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999D-9344-4F0D-BB75-587B92C8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15E9-9393-43F2-ABE1-163E6BCB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A425-295D-405F-8C14-BEA144D1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9C99-6E7E-4144-8C01-10E99C8E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9F76-D9E0-4BB7-8579-052978BE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39A4EB-7B87-4DC6-B9EF-698E6BB4047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E94748-C8D1-4666-87C0-B57DF88A061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5219640" cy="12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 класс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О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4"/>
          <p:cNvSpPr/>
          <p:nvPr/>
        </p:nvSpPr>
        <p:spPr>
          <a:xfrm>
            <a:off x="0" y="2853000"/>
            <a:ext cx="550764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 cap="all">
                <a:solidFill>
                  <a:schemeClr val="accent4"/>
                </a:solidFill>
                <a:latin typeface="Calibri"/>
              </a:rPr>
              <a:t>«ЮНОСТЬ И НАДЕЖДЫ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img12.proshkolu.ru/content/media/pic/std/5000000/4082000/4081061-741f0e362440d869.jpg"/>
          <p:cNvPicPr/>
          <p:nvPr/>
        </p:nvPicPr>
        <p:blipFill>
          <a:blip r:embed="rId1"/>
          <a:stretch/>
        </p:blipFill>
        <p:spPr>
          <a:xfrm>
            <a:off x="5220000" y="476640"/>
            <a:ext cx="3803400" cy="58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60640"/>
            <a:ext cx="42584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Этюд головы девочки»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. Рубенс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361044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Опишите. Что вы видите на этом портрете?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331880" y="0"/>
            <a:ext cx="481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Мика Морозов» В. Серов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971640" y="908640"/>
            <a:ext cx="6822360" cy="59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8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Придумай и нарисуй образ радости детства и светлой юности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Юность и надежд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и всех народов стремятся к счастью и верят, что в будущем жизнь будет лучш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ловек не может жить без мечты. А мечты и надежды связывают с юностью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искусстве всех народов есть светлая тема радости жизни, красоты молодости, тема счасть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640" y="476640"/>
            <a:ext cx="26744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Менины»-Веласкес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556640"/>
            <a:ext cx="3131640" cy="530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о групповой портрет, на нем изображена королевская семья(король Филип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и его жена) и придворные королевы и инфанты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просторном зале королевского дворца стоит тишина. По придворному этикету, пока король безмолвствует, никто не имеет права говорить. Вдруг распахивается дверь, и в нее вбегает маленькая светловолосая девочка в неудобном темном платье. Придворные дамы и кормилица стараются удержать ее от неуместного проявления резвости и нарушения этикета, но инфанта (принцесса) не слушается, ей хочется бегать и резвиться. Увидев отца и мать, она внезапно останавливается, а менина, почтительно склонившись, подносит бокал воды, чтобы успокоить ее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-Какие детские черты раскрыл художник в картине «Менины»?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3211920" y="0"/>
            <a:ext cx="593172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4664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Какие детские черты раскрыл художник в картине «Менины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посредственност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алост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зорство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дость детств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3636000" y="1484640"/>
            <a:ext cx="5218200" cy="48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32000" y="0"/>
            <a:ext cx="601164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инаида Серебрякова «Портрет дочери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s48.radikal.ru/i122/1005/f0/a4db097f8e40.jpg"/>
          <p:cNvPicPr/>
          <p:nvPr/>
        </p:nvPicPr>
        <p:blipFill>
          <a:blip r:embed="rId1"/>
          <a:stretch/>
        </p:blipFill>
        <p:spPr>
          <a:xfrm>
            <a:off x="4572000" y="692640"/>
            <a:ext cx="4469400" cy="6165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http://vadiman79.users.photofile.ru/photo/vadiman79/115640170/xlarge/134581427.jpg"/>
          <p:cNvPicPr/>
          <p:nvPr/>
        </p:nvPicPr>
        <p:blipFill>
          <a:blip r:embed="rId2"/>
          <a:stretch/>
        </p:blipFill>
        <p:spPr>
          <a:xfrm>
            <a:off x="323640" y="744480"/>
            <a:ext cx="4080600" cy="61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3944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1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Портрет старика с внуком»- ит. Художник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V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. Гирландайо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22440" cy="514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6160" indent="-326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тор сравнивает два возраста. С какой любовью и теплом  смотрят друг на друга дедушка и его маленький внучек, жившие 500 лет назад!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 ли уж отличаются  они от современных дедушек и их любимых внуков?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26160" indent="-326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хотел рассказать зрителю художник?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Знание, опыт даются людям путем жертв и горя. Только в начале жизни, в детстве существует радостный взгляд на жизнь)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4140000" y="0"/>
            <a:ext cx="500364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640" y="274680"/>
            <a:ext cx="41040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3000"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Портрет мальчика Челищева(1809)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.А. Кипренски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3826440" cy="500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е внимание художник сосредоточил  на передаче выражения лица. Его привлекательное умное лицо чуть повернуто вправо, большие темные глаза широко открыты и внимательно, пытливо смотрят на зрителя, на мир. Это сверстник Пушкина и декабристов, старший брат Лермонтова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О чем он думает и мечтает?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Какие черты детского характера изобразил художник?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Надежда на светлое будущее, мечты о подвигах, путешествиях, открытиях)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835800" y="0"/>
            <a:ext cx="53078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962440" cy="70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7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Девочка с персиками»(1887) В. Серов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640" y="1196640"/>
            <a:ext cx="302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центре картины художник поместил девочку-подростка Верушу Мамонтову. Весь облик ее говорит о живости характера, темпераменте. Девочка сидит за столом светло-розовой блузе. Перед ней на светлой скатерти персики и осенние листья. Комната озарена осеним светом, идущие через большие окна. Девочка как будто присела на минуту и тотчас умчится, едва художник закончит ее рисовать. Сразу видно, что долго сидеть ей труднее, чем бегать, прыгать целый день!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Чем она похожа на вас?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Какие впечатления у вас от этой картины?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Что вы можете сказать о детстве этой девочки?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448080" y="404640"/>
            <a:ext cx="5695560" cy="61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3224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Портрет сына»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. Тропинин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84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картине приковывают  внимание глаза мальчика. Он пытливо смотрит в наш мир, ищет ответы на свои вопросы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Что вы можете сказать о таких средствах выразительности, как цвет и свет, в этой картине?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858840" y="0"/>
            <a:ext cx="528480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  <Words>555</Words>
  <Paragraphs>41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20:20:47Z</dcterms:created>
  <dc:creator>User</dc:creator>
  <dc:description/>
  <dc:language>en-US</dc:language>
  <cp:lastModifiedBy>Юлия</cp:lastModifiedBy>
  <dcterms:modified xsi:type="dcterms:W3CDTF">2014-05-11T10:50:26Z</dcterms:modified>
  <cp:revision>18</cp:revision>
  <dc:subject/>
  <dc:title>Тема: «Юность и надежда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2</vt:r8>
  </property>
</Properties>
</file>